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3A3BC-BB02-4D8E-A87D-05DBF5647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DF3E-6C1B-4D69-8CDC-18E25CE0F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3B2AF-861F-4749-BF57-E1D1176E6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8A67D-1DE6-4628-9A91-DBB7BDCF8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104F5-32A6-4EA8-B27C-983191750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69C3-CA59-4A3F-A28E-D53983C2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05FC1-724B-4B75-9367-D4AF61C7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F905A-B2D1-4158-A79B-57CC562C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40A4-1B06-4FEF-8D80-5F0232599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0C663-9FCE-43EE-9F06-F643B783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0731-2725-4D0E-9C57-48EB4C76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455A-312F-4350-8FE9-367FC0D33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28870-068D-4E09-A8D0-6AE2A73FCC1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abs</a:t>
            </a:r>
            <a:endParaRPr b="0" lang="en-US" sz="4400" spc="-1" strike="noStrike">
              <a:solidFill>
                <a:srgbClr val="000000"/>
              </a:solidFill>
              <a:latin typeface="Arial"/>
            </a:endParaRPr>
          </a:p>
        </p:txBody>
      </p:sp>
      <p:sp>
        <p:nvSpPr>
          <p:cNvPr id="4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fo Hub</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Basi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rtheast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ather River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erican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Valley Subreg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t a Glance</a:t>
            </a:r>
            <a:endParaRPr b="0" lang="en-US" sz="4400" spc="-1" strike="noStrike">
              <a:solidFill>
                <a:srgbClr val="000000"/>
              </a:solidFill>
              <a:latin typeface="Arial"/>
            </a:endParaRPr>
          </a:p>
        </p:txBody>
      </p:sp>
      <p:sp>
        <p:nvSpPr>
          <p:cNvPr id="44" name=""/>
          <p:cNvSpPr/>
          <p:nvPr/>
        </p:nvSpPr>
        <p:spPr>
          <a:xfrm>
            <a:off x="1279440" y="1528920"/>
            <a:ext cx="6583320" cy="5187960"/>
          </a:xfrm>
          <a:prstGeom prst="rect">
            <a:avLst/>
          </a:prstGeom>
          <a:noFill/>
          <a:ln w="0">
            <a:noFill/>
          </a:ln>
        </p:spPr>
        <p:style>
          <a:lnRef idx="0"/>
          <a:fillRef idx="0"/>
          <a:effectRef idx="0"/>
          <a:fontRef idx="minor"/>
        </p:style>
        <p:txBody>
          <a:bodyPr lIns="90000" rIns="90000" tIns="45000" bIns="45000" anchor="t">
            <a:noAutofit/>
          </a:bodyPr>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today are denser and more susceptible to wildfire due to a century of fire suppression</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store massive amounts of carbon, assisting in combating climate change</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igh-intensity burn areas have increased by 10% between 1984 and 2010</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re land has burned in the first four-and-a-half-years of this decade than the past seven decades</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wildfires like the Rim Fire, can produce the same amount of greenhouse gas emissions as 2.3 million vehicles produce in a year</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otal acreage burned on the west slope of the Sierra has trended upward over the last century</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intense wildfires cause increases in runoff and sedimentation, decreasing water quality</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acramento Basin carries 31% of the state's total surface water runoff</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3,000 acres of riparian forest remain of the original 500,000 acres that once lined the Sacramento River</a:t>
            </a:r>
            <a:endParaRPr b="0" lang="en-US" sz="1800" spc="-1" strike="noStrike">
              <a:solidFill>
                <a:srgbClr val="000000"/>
              </a:solidFill>
              <a:latin typeface="Arial"/>
            </a:endParaRPr>
          </a:p>
          <a:p>
            <a:pPr marL="214200" indent="-214200">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rom the Data Libraries</a:t>
            </a:r>
            <a:endParaRPr b="0" lang="en-US" sz="4400" spc="-1" strike="noStrike">
              <a:solidFill>
                <a:srgbClr val="000000"/>
              </a:solidFill>
              <a:latin typeface="Arial"/>
            </a:endParaRPr>
          </a:p>
        </p:txBody>
      </p:sp>
      <p:sp>
        <p:nvSpPr>
          <p:cNvPr id="46" name="PlaceHolder 2"/>
          <p:cNvSpPr>
            <a:spLocks noGrp="1"/>
          </p:cNvSpPr>
          <p:nvPr>
            <p:ph/>
          </p:nvPr>
        </p:nvSpPr>
        <p:spPr>
          <a:xfrm>
            <a:off x="456840" y="1685880"/>
            <a:ext cx="3884760" cy="4989600"/>
          </a:xfrm>
          <a:prstGeom prst="rect">
            <a:avLst/>
          </a:prstGeom>
          <a:noFill/>
          <a:ln w="0">
            <a:noFill/>
          </a:ln>
        </p:spPr>
        <p:txBody>
          <a:bodyPr lIns="0" rIns="0" tIns="12240" bIns="0" anchor="t">
            <a:normAutofit/>
          </a:bodyPr>
          <a:p>
            <a:pPr indent="0">
              <a:lnSpc>
                <a:spcPct val="9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GIS Layer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Threat</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Vegetation</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Department of Fish and Wildlife Region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Habitat Restoration Project Database</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Historic Fire Perimeter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Habitat Restoration Project Database  </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NRCS Soil Typ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ree Mortality</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Sacramento River Riparian Vegetation</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tate Responsibility Area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IRWM Project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imber Harvest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Hydrography Dataset</a:t>
            </a:r>
            <a:endParaRPr b="0" lang="en-US" sz="1400" spc="-1" strike="noStrike">
              <a:solidFill>
                <a:srgbClr val="000000"/>
              </a:solidFill>
              <a:latin typeface="Arial"/>
            </a:endParaRPr>
          </a:p>
        </p:txBody>
      </p:sp>
      <p:sp>
        <p:nvSpPr>
          <p:cNvPr id="47" name=""/>
          <p:cNvSpPr/>
          <p:nvPr/>
        </p:nvSpPr>
        <p:spPr>
          <a:xfrm>
            <a:off x="4389480" y="1646280"/>
            <a:ext cx="5113440" cy="4286160"/>
          </a:xfrm>
          <a:prstGeom prst="rect">
            <a:avLst/>
          </a:prstGeom>
          <a:noFill/>
          <a:ln w="0">
            <a:noFill/>
          </a:ln>
        </p:spPr>
        <p:style>
          <a:lnRef idx="0"/>
          <a:fillRef idx="0"/>
          <a:effectRef idx="0"/>
          <a:fontRef idx="minor"/>
        </p:style>
        <p:txBody>
          <a:bodyPr lIns="90000" rIns="90000" tIns="57240" bIns="45000" anchor="t">
            <a:noAutofit/>
          </a:bodyPr>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Data Sets: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alifornia's Forests and Rangelands: 2010 Assessment Data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Turbidity Data</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River Discharge</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Report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ierra Nevada Conservancy State of the Sierra Nevada's Forests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stimating Water Supply Benefits from Forest Restoration in the Northern Sierra Nevada</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US Forest Service Leadership Intent</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levated Tree Mortality Resulting from Ongoing California Drought</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Forests in the Sierra Nevada: A Conservation Strategy</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ffects of Drought on Forests and Rangelands in the United State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Bark Beetles in California Conifer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gressive Forest Canopy Water Loss During the 2012-2015 California Drough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
              </a:rPr>
              <a:t>Herger-Feinstein Quincy Library Group Recovery Act</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The primary purpose of the Pilot Project is to implement and demonstrate the effectiveness of resource management activities proposed by the Quincy Library Group to promote local economic stability; create healthy, fire-resilient forests that maintain ecological integrity; and construct a strategic network of fuel breaks (Defensible Fuel Profile Zones or DFPZs) that provides for safe and effective fire suppression.  Read More  </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s Forest Health and Why is it Important? </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122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Forests play an important role in the health of a watershed. Healthy forests can help trap water, reducing run-off and increasing infiltration to support in-stream flows (2). Forests of all types, coniferous, oak woodland, riparian, all provide critical wildlife habitat and support local economies.  Many of the forests in California are in poor shape due to drought and prolonged fire suppression.  The Nature Conservancy estimates that “if the current scale of forest restoration is increased three-fold, there could be up to a 6 percent increase in the mean annual streamflow for individual watersheds”(3). As well, proper vegetative cover can reduce soil erosion and help prevent large sedimentation events during storms(2). Healthy forests are less likely to experience catastrophic wildfires that are often followed by large sedimentation events in nearby waterways. </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The following table shows fire return intervals for different vegetation classes.</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52" name="" descr=""/>
          <p:cNvPicPr/>
          <p:nvPr/>
        </p:nvPicPr>
        <p:blipFill>
          <a:blip r:embed="rId1"/>
          <a:stretch/>
        </p:blipFill>
        <p:spPr>
          <a:xfrm>
            <a:off x="1828800" y="3840120"/>
            <a:ext cx="6240600" cy="3246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nagement Concerns: </a:t>
            </a:r>
            <a:endParaRPr b="0" lang="en-US" sz="4400" spc="-1" strike="noStrike">
              <a:solidFill>
                <a:srgbClr val="000000"/>
              </a:solidFill>
              <a:latin typeface="Arial"/>
            </a:endParaRPr>
          </a:p>
        </p:txBody>
      </p:sp>
      <p:sp>
        <p:nvSpPr>
          <p:cNvPr id="54" name=""/>
          <p:cNvSpPr/>
          <p:nvPr/>
        </p:nvSpPr>
        <p:spPr>
          <a:xfrm>
            <a:off x="1554120" y="2378160"/>
            <a:ext cx="5008680" cy="3290760"/>
          </a:xfrm>
          <a:prstGeom prst="rect">
            <a:avLst/>
          </a:prstGeom>
          <a:noFill/>
          <a:ln w="0">
            <a:noFill/>
          </a:ln>
        </p:spPr>
        <p:style>
          <a:lnRef idx="0"/>
          <a:fillRef idx="0"/>
          <a:effectRef idx="0"/>
          <a:fontRef idx="minor"/>
        </p:style>
        <p:txBody>
          <a:bodyPr lIns="90000" rIns="90000" tIns="66240" bIns="45000" anchor="t">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e Frequency and Severity</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n-Native Plant Species</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parian Forest Protection</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ee Mortality</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ought </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rk Beetle</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5T18:56:10Z</dcterms:created>
  <dc:creator>Nicole </dc:creator>
  <dc:description/>
  <dc:language>en-US</dc:language>
  <cp:lastModifiedBy/>
  <cp:revision>1</cp:revision>
  <dc:subject/>
  <dc:title/>
</cp:coreProperties>
</file>